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3.jpeg" ContentType="image/jpeg"/>
  <Override PartName="/ppt/media/image6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9AC-3C1B-4E08-BBC6-9BF1EE31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85F-8C62-4291-A0B6-02AD4B47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F1D-E74A-4A32-B197-C2273BFD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9F0-B9F3-464C-8405-77972523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47A-AC2F-4104-8CDB-1AEA6831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4E4-42C6-414A-9226-CF4FAED3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C39-B192-425C-8521-A0FC55C9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B92-3299-4D14-9778-2C9A8F1E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840-7D37-40B6-BC89-2F76C19A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0A1-69D1-4CC2-B846-4B5B3E90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2F7-54A4-4A88-8A9D-C41136B4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0DF-5E18-48E5-A731-4803DA82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7E35A-5126-4761-B8B0-E4A23FE10F2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31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i="1" lang="ru-RU" sz="4200" spc="-1" strike="noStrike">
                <a:solidFill>
                  <a:srgbClr val="ff0000"/>
                </a:solidFill>
                <a:latin typeface="Georgia"/>
              </a:rPr>
              <a:t>«</a:t>
            </a:r>
            <a:r>
              <a:rPr b="1" i="1" lang="ru-RU" sz="4200" spc="-1" strike="noStrike">
                <a:solidFill>
                  <a:srgbClr val="ff0000"/>
                </a:solidFill>
                <a:latin typeface="Arial"/>
              </a:rPr>
              <a:t>Званно</a:t>
            </a:r>
            <a:r>
              <a:rPr b="1" i="1" lang="ru-RU" sz="4200" spc="-1" strike="noStrike">
                <a:solidFill>
                  <a:srgbClr val="ff0000"/>
                </a:solidFill>
                <a:latin typeface="Georgia"/>
              </a:rPr>
              <a:t>вский сельсовет»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Глушковского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района Курской области на 201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год </a:t>
            </a:r>
            <a:br>
              <a:rPr sz="3600"/>
            </a:b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Званн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овский сельсовет»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Глушко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вского района Курской области на 201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6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год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1125360"/>
          <a:ext cx="8231040" cy="546588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3067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16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52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4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Культура, кинематограф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66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144360" y="1638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Званн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овский сельсовет» 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Глушков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ского района Курской области в 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2016 году 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(тыс.руб.)</a:t>
            </a:r>
            <a:endParaRPr b="1" i="1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692280"/>
          <a:ext cx="8715240" cy="8577000"/>
        </p:xfrm>
        <a:graphic>
          <a:graphicData uri="http://schemas.openxmlformats.org/drawingml/2006/table">
            <a:tbl>
              <a:tblPr/>
              <a:tblGrid>
                <a:gridCol w="6316560"/>
                <a:gridCol w="776160"/>
                <a:gridCol w="776520"/>
                <a:gridCol w="846000"/>
              </a:tblGrid>
              <a:tr h="50364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466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215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1. Муниципальная программа «Развитие культуры в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Званн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овском сельсовете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Глушко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вского района Курской области на 201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 год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1705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2. Муниципальная программа «Повышение эффективности работы с молодежью,организация отдыха и оздоровление детей, молодежи. Развитие физической культуры и спорта в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Званн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овском сельсовете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Глушк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овского района Курской области на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2016 год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3. Муниципальная программа «Обеспечение доступным и комфортным жильем и коммунальными услугами граждан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Званновского сельсовета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Глушко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вского района Курской области на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28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4. Муниципальная программа «Развитие муниципальной службы в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Званн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овском сельсовете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Глушк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овского района Курской области на 201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 год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14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5. Муниципальная программа «Защита населения и территории от чрезвычайных ситуаций, обеспечение пожарной безопасности и безопасности людей на водных объектах в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Званн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овском сельсовете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Глушк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овского района Курской области на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2016 год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1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. Муниципальная программа «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Энергосбережение и повышение энергетической эффективности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Званн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овск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ого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 сельсовет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а Глушк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овского района Курской области на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2016 год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. Муниципальная программа «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Повышение эффективности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управления финансами в Званн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овск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ом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 сельсовет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е Глушк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овского района Курской области на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2016 год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  <a:ea typeface="Microsoft YaHei"/>
                        </a:rPr>
                        <a:t>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Arial"/>
                          <a:ea typeface="Lucida Sans Unicode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Званн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овский сельсовет»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Глушко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вского района Курской области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31040" cy="495468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  <a:gridCol w="1079280"/>
                <a:gridCol w="101916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52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9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39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51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6200000">
            <a:off x="100404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6200000">
            <a:off x="543240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Lucida Sans Unicode"/>
              </a:rPr>
              <a:t>Званн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овского 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«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Lucida Sans Unicode"/>
              </a:rPr>
              <a:t>Званн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овский 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«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Званно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вский сельсовет» 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Глушков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ского района Курской области на 201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6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 год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205000"/>
          <a:ext cx="8353440" cy="4253040"/>
        </p:xfrm>
        <a:graphic>
          <a:graphicData uri="http://schemas.openxmlformats.org/drawingml/2006/table">
            <a:tbl>
              <a:tblPr/>
              <a:tblGrid>
                <a:gridCol w="2670120"/>
                <a:gridCol w="1566720"/>
                <a:gridCol w="1560600"/>
                <a:gridCol w="2556000"/>
              </a:tblGrid>
              <a:tr h="700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20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080,3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48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54,1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484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663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82,9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Званн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овский сельсовет» на 201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6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0" y="1916280"/>
            <a:ext cx="8458200" cy="4458600"/>
            <a:chOff x="0" y="1916280"/>
            <a:chExt cx="8458200" cy="4458600"/>
          </a:xfrm>
        </p:grpSpPr>
        <p:cxnSp>
          <p:nvCxnSpPr>
            <p:cNvPr id="99" name="AutoShape 4"/>
            <p:cNvCxnSpPr>
              <a:stCxn id="100" idx="0"/>
            </p:cNvCxnSpPr>
            <p:nvPr/>
          </p:nvCxnSpPr>
          <p:spPr>
            <a:xfrm flipV="1" rot="16200000">
              <a:off x="5262840" y="267408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1" name="AutoShape 5"/>
            <p:cNvCxnSpPr>
              <a:stCxn id="102" idx="0"/>
            </p:cNvCxnSpPr>
            <p:nvPr/>
          </p:nvCxnSpPr>
          <p:spPr>
            <a:xfrm flipV="1" rot="16200000">
              <a:off x="3782880" y="415584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3" name="AutoShape 6"/>
            <p:cNvCxnSpPr>
              <a:stCxn id="104" idx="0"/>
            </p:cNvCxnSpPr>
            <p:nvPr/>
          </p:nvCxnSpPr>
          <p:spPr>
            <a:xfrm flipH="1" flipV="1" rot="5400000">
              <a:off x="2301480" y="267660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05" name="AutoShape 7"/>
            <p:cNvGrpSpPr/>
            <p:nvPr/>
          </p:nvGrpSpPr>
          <p:grpSpPr>
            <a:xfrm>
              <a:off x="2935440" y="1916280"/>
              <a:ext cx="2584440" cy="1819440"/>
              <a:chOff x="2935440" y="1916280"/>
              <a:chExt cx="2584440" cy="1819440"/>
            </a:xfrm>
          </p:grpSpPr>
          <p:pic>
            <p:nvPicPr>
              <p:cNvPr id="106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935440" y="191628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047400" y="202464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  <a:ea typeface="Lucida Sans Unicode"/>
                  </a:rPr>
                  <a:t>3080,311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AutoShape 8"/>
            <p:cNvSpPr/>
            <p:nvPr/>
          </p:nvSpPr>
          <p:spPr>
            <a:xfrm>
              <a:off x="0" y="4602960"/>
              <a:ext cx="2535480" cy="177192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1987,945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2960640" y="4602960"/>
              <a:ext cx="2535480" cy="177192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166,212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5923080" y="4602960"/>
              <a:ext cx="2535120" cy="177192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3240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Званновский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сельсовет» на 2016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179280" y="1916280"/>
            <a:ext cx="8458200" cy="4458600"/>
            <a:chOff x="179280" y="1916280"/>
            <a:chExt cx="8458200" cy="4458600"/>
          </a:xfrm>
        </p:grpSpPr>
        <p:cxnSp>
          <p:nvCxnSpPr>
            <p:cNvPr id="111" name="AutoShape 4"/>
            <p:cNvCxnSpPr>
              <a:stCxn id="112" idx="0"/>
            </p:cNvCxnSpPr>
            <p:nvPr/>
          </p:nvCxnSpPr>
          <p:spPr>
            <a:xfrm flipV="1" rot="16200000">
              <a:off x="5442120" y="267408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13" name="AutoShape 5"/>
            <p:cNvCxnSpPr>
              <a:stCxn id="114" idx="0"/>
            </p:cNvCxnSpPr>
            <p:nvPr/>
          </p:nvCxnSpPr>
          <p:spPr>
            <a:xfrm flipV="1" rot="16200000">
              <a:off x="3962160" y="415584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15" name="AutoShape 6"/>
            <p:cNvCxnSpPr>
              <a:stCxn id="116" idx="0"/>
            </p:cNvCxnSpPr>
            <p:nvPr/>
          </p:nvCxnSpPr>
          <p:spPr>
            <a:xfrm flipH="1" flipV="1" rot="5400000">
              <a:off x="2480760" y="267660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17" name="AutoShape 7"/>
            <p:cNvGrpSpPr/>
            <p:nvPr/>
          </p:nvGrpSpPr>
          <p:grpSpPr>
            <a:xfrm>
              <a:off x="3114720" y="1916280"/>
              <a:ext cx="2584440" cy="1819440"/>
              <a:chOff x="3114720" y="1916280"/>
              <a:chExt cx="2584440" cy="1819440"/>
            </a:xfrm>
          </p:grpSpPr>
          <p:pic>
            <p:nvPicPr>
              <p:cNvPr id="118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4720" y="191628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26680" y="202464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  <a:ea typeface="Lucida Sans Unicode"/>
                  </a:rPr>
                  <a:t>3080,311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AutoShape 8"/>
            <p:cNvSpPr/>
            <p:nvPr/>
          </p:nvSpPr>
          <p:spPr>
            <a:xfrm>
              <a:off x="179280" y="4602960"/>
              <a:ext cx="2535480" cy="177192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1987,945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9"/>
            <p:cNvSpPr/>
            <p:nvPr/>
          </p:nvSpPr>
          <p:spPr>
            <a:xfrm>
              <a:off x="3139920" y="4602960"/>
              <a:ext cx="2535480" cy="177192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166,212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10"/>
            <p:cNvSpPr/>
            <p:nvPr/>
          </p:nvSpPr>
          <p:spPr>
            <a:xfrm>
              <a:off x="6102360" y="4602960"/>
              <a:ext cx="2535120" cy="177192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0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Званн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овский сельсовет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676440" y="1700280"/>
          <a:ext cx="8467560" cy="4672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440" y="1700280"/>
                    <a:ext cx="8467560" cy="46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800" spc="-1" strike="noStrike">
              <a:solidFill>
                <a:srgbClr val="0033cc"/>
              </a:solidFill>
              <a:latin typeface="Georgia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-438120" y="6124680"/>
          <a:ext cx="689040" cy="46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38120" y="6124680"/>
                    <a:ext cx="6890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6858000"/>
            <a:ext cx="108000" cy="81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800" spc="-1" strike="noStrike">
              <a:solidFill>
                <a:srgbClr val="0033cc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User</cp:lastModifiedBy>
  <cp:lastPrinted>2015-09-17T13:13:33Z</cp:lastPrinted>
  <dcterms:modified xsi:type="dcterms:W3CDTF">2015-11-19T12:09:43Z</dcterms:modified>
  <cp:revision>33</cp:revision>
  <dc:subject/>
  <dc:title>БЮДЖЕТ ДЛЯ ГРАЖДАН  муниципального образования «Кармановский сельсовет» Железногорского района Курской области на 2015 год  и на плановый период  2016 и 2017 годов</dc:title>
</cp:coreProperties>
</file>